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0C8-2281-44DB-8344-E185490B9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EEAF-EFE6-4B70-849B-157BE5649C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ntroduce data types, then move on to specific sources of data in Zambia for you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7746-D25F-4623-903F-78E77BB399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AEE-CD50-490C-A04B-60425842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8E5-2D19-4F17-B56F-7B96BA5C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5D1-340C-45B9-8E2E-856DC30B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0EE-9D19-4841-ABE9-B5DDF05A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FD1-0FC2-4347-A0CA-D92EDB2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A9F-038D-4B32-9FFF-84AC8F84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4C5-CE46-479E-A2A3-96366EDE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B57-277D-49D6-AF01-3545DD07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EDF-2940-4639-BD1C-BC9EAE90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8E1-A4EA-43C0-BA6C-ED98F549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37A-6C59-4C66-A419-96EDC602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ADA-A388-4639-AC2B-5521BECD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A1CB-112F-41A4-9ABB-06C48BF470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2F4-8366-4932-AF5B-5FC1185D673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-991080"/>
            <a:ext cx="8381880" cy="807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COUNTRY ADOPTION &amp; CARE FOR CHILDREN IN ZAMBIA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gue Conferenc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pril 2019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Zambia coat of arms"/>
          <p:cNvPicPr/>
          <p:nvPr/>
        </p:nvPicPr>
        <p:blipFill>
          <a:blip r:embed="rId1"/>
          <a:stretch/>
        </p:blipFill>
        <p:spPr>
          <a:xfrm>
            <a:off x="3733920" y="27000"/>
            <a:ext cx="213336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143000" y="5381640"/>
            <a:ext cx="74674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By Maximillian Bwal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Senior social welfar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595959"/>
                </a:solidFill>
                <a:latin typeface="Calibri"/>
                <a:ea typeface="Arial"/>
              </a:rPr>
              <a:t>Ministry of Community Development and Social Services-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18960" y="14479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s in the development of legal framework to domesticate the 1980/1993 Hague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ditious transitioning of children in formal care into Family Based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ies in dealing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ansi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option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Accreditation Criteria for Adoption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formation Management System for children in need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D2A-8B67-4403-AD4E-D03C707B77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Zambian Government continues to uphold the necessity, suitability and subsidiarity principles in ensuring that all children are cared for in a family; including an adoptive famil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iance to the Hague Convention recommendations is a priority in Zambia’s Child Care Reform process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Zambia has take measures to ensure both legal and policy frameworks guide Intercountry Adoption process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A223-A694-4E85-BB91-9003046A34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520" y="1709640"/>
            <a:ext cx="7886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Calibri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Zambia coat of arms"/>
          <p:cNvPicPr/>
          <p:nvPr/>
        </p:nvPicPr>
        <p:blipFill>
          <a:blip r:embed="rId1"/>
          <a:stretch/>
        </p:blipFill>
        <p:spPr>
          <a:xfrm>
            <a:off x="3952800" y="4462560"/>
            <a:ext cx="1238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8960" y="1417320"/>
            <a:ext cx="7467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Zambia’s Population was estimated at 16.8 million i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re than half of the population are children below the age of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,015,477 are categorised as Orphans and Vulnerable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7% in Alternative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413 childre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d for in 178 child care facilities countrywi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DA62-708D-442B-B658-827F616D016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69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mbia is in the process of reforming the child care system  by reducing over reliance on institutional care and promoting family and community based c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verty is one of the Key driving factors for family separation. Others include: death of parents, chronic illness, need for education  scholarships offered by child care facilitie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7FA6-80F2-4B1C-99EF-A00CFC30B0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Introduc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Zambian government recognizes that Family is the best environment where a child should grow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ional care is the measure of  last resort for a child in need of parental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responsibility of government to reunite  children who are separated from their families or be placed in other family based care through kinship care, foster care or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721-C405-47CF-96CB-CC9A340956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National Legal Frameworks for Protection and Promotion of Children’s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atutory services  and Policy documents for the protection of vulnerable groups, including children in order to promote their rights and welf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titution of the Republic of Zambia, Chapter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veniles Act Chapter 53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option Act, Chapter 54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ntenance Orders Act, Chapter 55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ffiliation and Maintenance of Children’s Act, Chapter 6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ti-Human Trafficking Act No. 11 (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ti-Gender Based Violence Act No.1 (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ducation Act, Chapter 134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y Nurseries Act, Chapter 313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al Code, Chapter 87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bation of Offenders Act, Chapter 93 of the Laws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131E-1205-49FF-8389-ED881473BB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RATIFICATION/ACCESSION STATU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8480" y="1523880"/>
            <a:ext cx="76197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August 2014; Zambi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ceded to the Convention of 25 October 1980 on the Civil Aspects of International Child Abduc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Convention entered into force for Zambia on 1 November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June 2015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Zambia acceded to the 1993 Hague Convention on Protection of Children and Cooperation in Respect to Intercountry Ado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convention entered into force o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ctober 20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A9F-58CE-457A-BFC9-5C800E19F8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DOMESTICATION OF THE 1993 HAGU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36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16; Zambia developed a road map for implementing the 1993 Hague convention which led to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velopment of Adoption Guidelines within the Alternative Care and Reintegration Guidelines of 20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doption Guidelines provide guidance on the intercountry procedure in line with provisions of the 1993 Hague Con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on of provisions on intercountry adoption in Children’s Code Bill to align with the 1993 Hague Convention. Bill to be tabled before Parliament in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velopment of Accreditation/Authorisation Criteria for Adoption Agencies expected to be finalized by second Quarter of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OTHER NEW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8960" y="1981080"/>
            <a:ext cx="7467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ion of the Children in Families (CIF) Technical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wide Assessment of Child Care Facilities  (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 of the Alternative Care Technical Working Group (201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Management curriculum for Alternative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 of Case Management in Social Work Curriculum at the University of Zambia (UNZ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Management training provided at pre- and in-service for those working with children and families (i.e., inclusion of case management into training curricula at Community Development Staff Training Colleg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Case Management Tools for children in formal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A709-39D7-4A14-A468-2A9ED0D823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Central and Competent Authority – 1993 Hague Con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8960" y="195084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partment Social Welfare in the Ministry of Community Development and Social Services is the designa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ntral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gistrar General’s Office in the Department of National Registration, Passports and Citizenship 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ef Registrar of the Judiciary are the designa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etent auth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F3F4-9EF6-4026-BFB1-2B6264FCFD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0:44:56Z</dcterms:created>
  <dc:creator>keatingr</dc:creator>
  <dc:description/>
  <dc:language>en-US</dc:language>
  <cp:lastModifiedBy>Max Bwalya</cp:lastModifiedBy>
  <cp:lastPrinted>2018-06-21T05:27:26Z</cp:lastPrinted>
  <dcterms:modified xsi:type="dcterms:W3CDTF">2019-04-02T09:25:36Z</dcterms:modified>
  <cp:revision>705</cp:revision>
  <dc:subject/>
  <dc:title>Data Summary and Analysis</dc:title>
</cp:coreProperties>
</file>