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5AA1-CA4B-402A-95BF-1A1DD36130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CB7A-2015-4B48-8E96-F22476F4F6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introduce data types, then move on to specific sources of data in Zambia for your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7F30-F02E-4545-A9EF-660CA03DB7D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8A9-5662-4CCC-AB7A-CDA106CD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90F-3C81-4E5C-9E80-4534DC70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AD8-A817-40D2-BB22-1C9AA020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FF3-E738-4165-873A-C20C2B2F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A58C-C2D5-4961-949A-F61E7DE1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19C-0189-45CC-8669-5D7C904B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C9D-C659-4E12-A8DC-34F4D6B1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DE8-52BC-407E-A720-6DA0020A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866-D734-4B50-986D-051BEA90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96A-B6D8-4BD8-8D48-48D403D3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0F9-A8E5-4ED9-A2AC-98B07151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7DA-1049-4CEC-9E20-8DBA04A1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8E19-9B6E-4264-A17C-424BFBA263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6013-F6E9-4C0A-9F34-7638842F501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-991080"/>
            <a:ext cx="8381880" cy="807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COUNTRY ADOPTION &amp; CARE FOR CHILDREN IN ZAMBIA”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gue Conferenc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pril 2019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Zambia coat of arms"/>
          <p:cNvPicPr/>
          <p:nvPr/>
        </p:nvPicPr>
        <p:blipFill>
          <a:blip r:embed="rId1"/>
          <a:stretch/>
        </p:blipFill>
        <p:spPr>
          <a:xfrm>
            <a:off x="3733920" y="27000"/>
            <a:ext cx="2133360" cy="1449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143000" y="5381640"/>
            <a:ext cx="74674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  <a:ea typeface="Arial"/>
              </a:rPr>
              <a:t>By Maximillian Bwal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  <a:ea typeface="Arial"/>
              </a:rPr>
              <a:t>Senior social welfare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>
                <a:solidFill>
                  <a:srgbClr val="595959"/>
                </a:solidFill>
                <a:latin typeface="Calibri"/>
                <a:ea typeface="Arial"/>
              </a:rPr>
              <a:t>Ministry of Community Development and Social Services-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18960" y="14479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ays in the development of legal framework to domesticate the 1980/1993 Hague Con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ditious transitioning of children in formal care into Family Based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iculties in dealing wi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ransitio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doption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Accreditation Criteria for Adoption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Information Management System for children in need of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5D3C-DE29-4417-8343-5C6BC53BDE4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Zambian Government continues to uphold the necessity, suitability and subsidiarity principles in ensuring that all children are cared for in a family; including an adoptive famil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liance to the Hague Convention recommendations is a priority in Zambia’s Child Care Reform process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Zambia has take measures to ensure both legal and policy frameworks guide Intercountry Adoption process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5C30-0FC9-4C80-80FD-6A5566716DE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28520" y="1709640"/>
            <a:ext cx="78865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b0f0"/>
                </a:solidFill>
                <a:latin typeface="Calibri"/>
              </a:rPr>
              <a:t>THANK YOU FOR YOUR ATTENTION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Zambia coat of arms"/>
          <p:cNvPicPr/>
          <p:nvPr/>
        </p:nvPicPr>
        <p:blipFill>
          <a:blip r:embed="rId1"/>
          <a:stretch/>
        </p:blipFill>
        <p:spPr>
          <a:xfrm>
            <a:off x="3952800" y="4462560"/>
            <a:ext cx="12384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8960" y="1417320"/>
            <a:ext cx="7467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Zambia’s Population was estimated at 16.8 million i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re than half of the population are children below the age of 18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,015,477 are categorised as Orphans and Vulnerable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7% in Alternative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413 childre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d for in 178 child care facilities countrywid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96F7-2BDF-4CE1-81FC-A419238B305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69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ambia is in the process of reforming the child care system  by reducing over reliance on institutional care and promoting family and community based c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verty is one of the Key driving factors for family separation. Others include: death of parents, chronic illness, need for education  scholarships offered by child care facilities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CFBE-748C-4D5A-B468-C726E6563BD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Introduction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Zambian government recognizes that Family is the best environment where a child should grow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itutional care is the measure of  last resort for a child in need of parental 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the responsibility of government to reunite  children who are separated from their families or be placed in other family based care through kinship care, foster care or ado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33F1-B308-4354-8642-52387C4841F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alibri"/>
              </a:rPr>
              <a:t>National Legal Frameworks for Protection and Promotion of Children’s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tatutory services  and Policy documents for the protection of vulnerable groups, including children in order to promote their rights and welf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stitution of the Republic of Zambia, Chapter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uveniles Act Chapter 53 of the Laws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option Act, Chapter 54 of the Laws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intenance Orders Act, Chapter 55 of the Laws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ffiliation and Maintenance of Children’s Act, Chapter 6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ti-Human Trafficking Act No. 11 (200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ti-Gender Based Violence Act No.1 (20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ducation Act, Chapter 134 of the Laws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ay Nurseries Act, Chapter 313 of the Laws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nal Code, Chapter 87 of the Laws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bation of Offenders Act, Chapter 93 of the Laws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FAF3-8A57-4FA3-B6AF-AFBBAB7F72D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RATIFICATION/ACCESSION STATU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68480" y="1523880"/>
            <a:ext cx="761976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August 2014; Zambi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cceded to the Convention of 25 October 1980 on the Civil Aspects of International Child Abduction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Convention entered into force for Zambia on 1 November 201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June 2015;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Zambia acceded to the 1993 Hague Convention on Protection of Children and Cooperation in Respect to Intercountry Ado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convention entered into force o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ctober 2015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720D-022F-456F-8D29-A3248BF351A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DOMESTICATION OF THE 1993 HAGUE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360" y="14479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16; Zambia developed a road map for implementing the 1993 Hague convention which led to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evelopment of Adoption Guidelines within the Alternative Care and Reintegration Guidelines of 201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doption Guidelines provide guidance on the intercountry procedure in line with provisions of the 1993 Hague Conven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sion of provisions on intercountry adoption in Children’s Code Bill to align with the 1993 Hague Convention. Bill to be tabled before Parliament in 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evelopment of Accreditation/Authorisation Criteria for Adoption Agencies expected to be finalized by second Quarter of 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OTHER NEW DEVELOP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18960" y="1981080"/>
            <a:ext cx="7467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tion of the Children in Families (CIF) Technical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wide Assessment of Child Care Facilities  (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 of the Alternative Care Technical Working Group (201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Management curriculum for Alternative C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 of Case Management in Social Work Curriculum at the University of Zambia (UNZ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Management training provided at pre- and in-service for those working with children and families (i.e., inclusion of case management into training curricula at Community Development Staff Training Colleg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Case Management Tools for children in formal c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7ED7-7FFE-4283-A6DF-A36695AFABA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Central and Competent Authority – 1993 Hague Conv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18960" y="195084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partment Social Welfare in the Ministry of Community Development and Social Services is the designa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entral Autho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gistrar General’s Office in the Department of National Registration, Passports and Citizenship an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ief Registrar of the Judiciary are the designa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etent auth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DBFA-5CFB-4C94-B5D6-21B7A807AE6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0:44:56Z</dcterms:created>
  <dc:creator>keatingr</dc:creator>
  <dc:description/>
  <dc:language>en-US</dc:language>
  <cp:lastModifiedBy>Windows User</cp:lastModifiedBy>
  <cp:lastPrinted>2018-06-21T05:27:26Z</cp:lastPrinted>
  <dcterms:modified xsi:type="dcterms:W3CDTF">2019-04-02T11:02:17Z</dcterms:modified>
  <cp:revision>705</cp:revision>
  <dc:subject/>
  <dc:title>Data Summary and Analysis</dc:title>
</cp:coreProperties>
</file>