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4C53-CAE9-4E65-B7AC-F4685AB4E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785B-4362-4103-BA95-471FD894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illar 1RGB150"/>
          <p:cNvPicPr/>
          <p:nvPr/>
        </p:nvPicPr>
        <p:blipFill>
          <a:blip r:embed="rId2"/>
          <a:stretch/>
        </p:blipFill>
        <p:spPr>
          <a:xfrm>
            <a:off x="4211640" y="5734080"/>
            <a:ext cx="934920" cy="934920"/>
          </a:xfrm>
          <a:prstGeom prst="rect">
            <a:avLst/>
          </a:prstGeom>
          <a:ln w="0">
            <a:noFill/>
          </a:ln>
        </p:spPr>
      </p:pic>
      <p:pic>
        <p:nvPicPr>
          <p:cNvPr id="1" name="Picture 12" descr="law proteaRGB150"/>
          <p:cNvPicPr/>
          <p:nvPr/>
        </p:nvPicPr>
        <p:blipFill>
          <a:blip r:embed="rId3"/>
          <a:stretch/>
        </p:blipFill>
        <p:spPr>
          <a:xfrm>
            <a:off x="0" y="533520"/>
            <a:ext cx="3181320" cy="449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law curveRGB150"/>
          <p:cNvPicPr/>
          <p:nvPr/>
        </p:nvPicPr>
        <p:blipFill>
          <a:blip r:embed="rId2"/>
          <a:stretch/>
        </p:blipFill>
        <p:spPr>
          <a:xfrm>
            <a:off x="0" y="3087720"/>
            <a:ext cx="9144000" cy="3770280"/>
          </a:xfrm>
          <a:prstGeom prst="rect">
            <a:avLst/>
          </a:prstGeom>
          <a:ln w="0">
            <a:noFill/>
          </a:ln>
        </p:spPr>
      </p:pic>
      <p:pic>
        <p:nvPicPr>
          <p:cNvPr id="39" name="Picture 11" descr="law proteaRGB150"/>
          <p:cNvPicPr/>
          <p:nvPr/>
        </p:nvPicPr>
        <p:blipFill>
          <a:blip r:embed="rId3"/>
          <a:stretch/>
        </p:blipFill>
        <p:spPr>
          <a:xfrm>
            <a:off x="0" y="533520"/>
            <a:ext cx="3181320" cy="449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057400" y="1523880"/>
            <a:ext cx="6262560" cy="82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0000"/>
                </a:solidFill>
                <a:latin typeface="NewBskvll BT"/>
              </a:rPr>
              <a:t>Surrogacy in Africa – the new frontier?</a:t>
            </a:r>
            <a:br>
              <a:rPr sz="2800"/>
            </a:br>
            <a:br>
              <a:rPr sz="2800"/>
            </a:br>
            <a:r>
              <a:rPr b="1" lang="en-US" sz="2800" spc="-1" strike="noStrike">
                <a:solidFill>
                  <a:srgbClr val="cc0000"/>
                </a:solidFill>
                <a:latin typeface="NewBskvll BT"/>
              </a:rPr>
              <a:t>Prof Julia Sloth-Nielsen</a:t>
            </a:r>
            <a:br>
              <a:rPr sz="2800"/>
            </a:br>
            <a:r>
              <a:rPr b="1" lang="en-US" sz="2800" spc="-1" strike="noStrike">
                <a:solidFill>
                  <a:srgbClr val="cc0000"/>
                </a:solidFill>
                <a:latin typeface="NewBskvll BT"/>
              </a:rPr>
              <a:t>UWC</a:t>
            </a:r>
            <a:br>
              <a:rPr sz="2800"/>
            </a:br>
            <a:r>
              <a:rPr b="1" lang="en-US" sz="2800" spc="-1" strike="noStrike">
                <a:solidFill>
                  <a:srgbClr val="cc0000"/>
                </a:solidFill>
                <a:latin typeface="NewBskvll BT"/>
              </a:rPr>
              <a:t>April 20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drama started at Mombasa Hospital when doctors attempted to hand the child over to the legal father. She refused (she was biological m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It is not clear why Muthoni changed her mind despite signing legal papers to give the child to the Chinese f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M.N and others v AF Kenya (2015) KLR</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5th February 2013, Z delivered twin babies of the female gender at the Kenyatta National Hospital, the 3rd Respondent, after IVF at the Nairobi fertility centre.</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X and Y unable to conceive (no endocervical canal)</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fter legal advice from the Attorney General, birth certificates issued with X and Y named as par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X and Y sometime after June 2014 applied for British Citizenship for the children and to enable them travel to the United Kingdom</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sponse from UK immigration</a:t>
            </a:r>
            <a:r>
              <a:rPr b="0" lang="en-Z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option under Article 23 of the 1993 Hague Convention on the Protection of children and Co-operation in Respect of the Inter-Country Adoption – certificates issued under The Hague Convention Article 23 are acceptable for passport servic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Registration as a British citizen – it is open to you to contract the United Kingdom Visa &amp; Immigration service (UKV&amp;I) with a view to registering the children as British citizens</a:t>
            </a:r>
            <a:r>
              <a:rPr b="0" lang="en-Z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Further: “your daughters’ claim would be based on the fact that they had a British parent named on their birth certificate.  Information provided in support of your daughters claim have raised concerns that the details given on the birth certificate were found not to be tru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No law on surrogacy in Kenya</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Therefore Z is legal mother, and only option available is ado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Reproductive Health Care Bill (2014) and the Assisted Reproductive Technology Bill (2016) draf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ge limit of 25 for Surro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Requires genetic link and infert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ltruistic only permit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Domicile of Kenya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Baby factories are usually buildings or institutions such as hospitals or orphanages that have been converted to shelters for young pregnant girls and women for the purpose of deli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nd selling off their offsp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Characterised by baby breeding, forced impregnations, sale of babies, illegal adoptions, unlawful detention of young women, and even human trafficking.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It is not uncommon in baby factories for women to be forcefully impregnated by one of their kidnappers or an associate for the sake of birthing another offspring to be trafficked after a completed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Thriving business of “baby factories” (Adelaku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No legal framework, but not prohibited</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Dealt with on the basis of the law of contrac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Nigerian law reform commission has recommended that legislation should provide for the gestational mother to be the legal parent, and the commissioning parents to adopt post bi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ink to adoption/orphanag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t>
            </a:r>
            <a:r>
              <a:rPr b="0" lang="en-ZA" sz="2800" spc="-1" strike="noStrike">
                <a:solidFill>
                  <a:srgbClr val="000000"/>
                </a:solidFill>
                <a:latin typeface="Arial"/>
              </a:rPr>
              <a:t>The orphanage homes are the problem. For instance, I later got to know that the woman who came from London to pick the child I had already identified had been given them money at the orphanage. We should not lie or hide thing here, the orphanages are not trust worthy, if they see somebody to give money, they would give the child as fast a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ill was introduced to parliament in 2012 – but did not enjoy support of the legislator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2014 National Health Act was pass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 10 specifically outlaws manipulation of human genetic material – implied ban on AR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mendments to regulate via this Act ART introduced again in 2016 – not finalised thoug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Private members Bill also to regulate ART (and surrogacy again introduced in 2017, and passed secon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Background and histor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Cultural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Emerging ART facilities and services (me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Eg as at September 2018, 6 ART facilities in Ug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Demise of International surrogacy in the East (Thailand, Cambodia, 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Cost relative to (eg Calfor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If passed, will permit monetary compensation for the surrogate over and above expens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dekalun speculates that, since commercial surrogacy is already practiced, this is an attempt to get support to get the Act through Parliamen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RT clinics may not adverstise surrogacy services, but surrogates permitted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Nigeria</a:t>
            </a:r>
            <a:endParaRPr b="0" lang="en-US"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This Bill will allow cross border surrogacy provided that out-of- country commissioning parents must employ an in-country guardian to look after the surrogate during and after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Ghana</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riving surrogacy practice (commercial to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No legis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International surrogacy is not prohibi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No clarity of  legal status of surrogate born chi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re has been public outcry about exploitation of surrogate mot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Health workers have allegedly imprisoned surrogates in their homes or allegedly stolen bab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Ghana</a:t>
            </a: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t>
            </a:r>
            <a:r>
              <a:rPr b="0" lang="en-ZA" sz="3200" spc="-1" strike="noStrike">
                <a:solidFill>
                  <a:srgbClr val="000000"/>
                </a:solidFill>
                <a:latin typeface="Arial"/>
              </a:rPr>
              <a:t>Denise who successfully delivered of quadruplets, felt cheated when her agents refused to offer her the agreed rental accommodation amidst complaints that the monthly stipends were not enough for her upkeep.Her situation was even made the more complicated when it turned out that no contracts were signed between her and the Mount Camel Fertility Centre” (20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Conclusions</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ICA decr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Health care systems (including private facilities) impro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Global medical tourism on the r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The new Front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South Africa</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Regulated environment via the Children’s 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Requires pre-conception approval of a Surrogate Motherhood Agreement (SMA) by a High Cou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ltruistic surrogacy only is allowed permissible and itemised expenses to be detailed in application for approval of S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South Africa</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Genetic link requirement confirmed by the Con Crt in AB (2016)</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Only available if one or both commissioning parents is domiciled in RSA</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Surrogate also to be domiciled in RSA, but court may dispense with on good cause shown (eg surrogate is sister living abro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South Africa</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Commissioning parents must be unable to give birth – condition must be permanent and irrever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egal certainty about parenthood – from birth, commissioning parents are legal parents unless there is a genetic link to the surrogate mother (her embryo) – then she has 60 days to terminate the S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South Africa</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No centralised data base (High Courts do not keep central records in each division); hospitals mostly private cli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No national body (eg Central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Involvement of intermediaries and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Although no advertisement of SMA services a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International dimensions</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WH case – both from Europe, second SMA in a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No proof of domicile in R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Namibians domiciled in Namibia – child born last month; SMA agreement was confirmed by RSA High Cou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t>
            </a:r>
            <a:r>
              <a:rPr b="0" lang="en-ZA" sz="2800" spc="-1" strike="noStrike">
                <a:solidFill>
                  <a:srgbClr val="000000"/>
                </a:solidFill>
                <a:latin typeface="Arial"/>
              </a:rPr>
              <a:t>Fraudulent” court papers discovered relating to SMA – two children, now in the UK, unclear where commissioning parents were domic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pic>
        <p:nvPicPr>
          <p:cNvPr id="97" name="Picture 2" descr="https://www.standardmedia.co.ke/images/monday/wpcvnwfabajgfw5b5f54b0435aa.jpg"/>
          <p:cNvPicPr/>
          <p:nvPr/>
        </p:nvPicPr>
        <p:blipFill>
          <a:blip r:embed="rId1"/>
          <a:stretch/>
        </p:blipFill>
        <p:spPr>
          <a:xfrm>
            <a:off x="1298520" y="1600200"/>
            <a:ext cx="65469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000000"/>
                </a:solidFill>
                <a:latin typeface="Arial"/>
              </a:rPr>
              <a:t>Kenya</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3 August 2018</a:t>
            </a:r>
            <a:endParaRPr b="0" lang="en-US" sz="32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Chinese tourist Neo Kian Fu was charged alongside Dr Mahesh N Chudasama and Josephine Muthoni Kariuki with attempting to traffic the baby to Singapor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Mr Kian Fu and Ms Kariuki had claimed the baby was their son. The Chinese national has a three-month tourist visa.</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Kariuki, 27, would receive Sh28,500 each month for the entire gestation period, with a final sum of Sh500,000 after documentation of the child and release through court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7:27:08Z</dcterms:created>
  <dc:creator>ITS</dc:creator>
  <dc:description/>
  <dc:language>en-US</dc:language>
  <cp:lastModifiedBy>Admin</cp:lastModifiedBy>
  <cp:lastPrinted>2019-02-19T12:52:22Z</cp:lastPrinted>
  <dcterms:modified xsi:type="dcterms:W3CDTF">2019-04-02T14:29:38Z</dcterms:modified>
  <cp:revision>271</cp:revision>
  <dc:subject/>
  <dc:title>FACULTY OF LAW</dc:title>
</cp:coreProperties>
</file>